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F0B-A59C-4B41-9F72-4CBE7DE4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E22-AA12-4242-9EC0-577F12B7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E54-311F-4AD1-B83E-A0CB49DF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662-8FE2-4891-ACA7-F4EA51A1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5E72-559E-4F7A-838A-B465E55C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96ED-C79A-403A-AA9C-70A80AC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0395-D35E-4B3C-A994-E3EEBA9F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E06E-1D67-464E-A5C5-5F78E7F2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89ED-02B8-43FD-8EBE-C6077878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BE3C-2F3A-47BA-A9A7-9EC7ED11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E82D-BA1B-4AE9-8048-1483729E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05B-C6D9-4B59-BA87-83FBF7AC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C46F-6B5C-4BC3-80BB-BD3FBD8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4250-8E7D-4497-9B49-8E443B11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F59C-E1DA-4534-B03D-6D4752A8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98D7-4780-4F28-A90B-8B541CE3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4810-8FD8-41C5-8B40-F23A2642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EDC-2EDE-45B6-A408-28848D16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487-1B72-485E-AC7B-E76219A1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A58-19AD-4ED7-A135-37F20E9C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163-4076-4E1A-9CBD-34B303A0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59A-C034-45EC-94C8-B327B42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577-FE36-4173-A9DF-65608434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6D8-FE96-46E0-94D6-4F60F71C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5F3-1D9C-4FBC-B477-CE5F647979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9AC0-0796-4D80-8F6C-A9D9FF0B66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5467" t="5195" r="7067" b="9092"/>
          <a:stretch/>
        </p:blipFill>
        <p:spPr>
          <a:xfrm>
            <a:off x="4516560" y="457200"/>
            <a:ext cx="4322520" cy="594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91440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There are lot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4’s that show up in the study of A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228600" y="457200"/>
            <a:ext cx="6019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 Art Production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re are basically 4 kinds of art that we mak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t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present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xpress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Utility; Art as a too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809880" cy="371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657600" y="144792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2238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618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omposition; Art for art sak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038480" cy="3994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2495520" cy="2495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876920" y="4191120"/>
            <a:ext cx="3657600" cy="222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rt that repres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74120" cy="3856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2640" y="533520"/>
            <a:ext cx="3969000" cy="5105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91160" y="533520"/>
            <a:ext cx="4071960" cy="5105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934320" cy="6026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ersonal Expres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6236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3992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80880" y="304920"/>
            <a:ext cx="601992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irst of all, there are the 4 Art Disciplin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 His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esthe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 Critic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53080" y="762120"/>
            <a:ext cx="3876480" cy="5333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4122720" cy="5333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025800" cy="388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29000" y="304920"/>
            <a:ext cx="1598760" cy="388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1593720" cy="217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rcRect l="0" t="0" r="4335" b="0"/>
          <a:stretch/>
        </p:blipFill>
        <p:spPr>
          <a:xfrm>
            <a:off x="5181480" y="304920"/>
            <a:ext cx="221004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33720" y="4343400"/>
            <a:ext cx="3200400" cy="2198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638680" y="4343400"/>
            <a:ext cx="1252800" cy="21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467480" y="304920"/>
            <a:ext cx="1381320" cy="3886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7162920" y="4343400"/>
            <a:ext cx="1677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80880" y="304920"/>
            <a:ext cx="601992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 Art History we study 4 area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ul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urning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e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251316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3914640"/>
            <a:ext cx="3011400" cy="2560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08200" y="228600"/>
            <a:ext cx="2922840" cy="415116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508200" y="4570560"/>
            <a:ext cx="2362320" cy="190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022800" y="3581280"/>
            <a:ext cx="238140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642000" y="1143000"/>
            <a:ext cx="2121120" cy="2146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80880" y="152280"/>
            <a:ext cx="66294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esthetics (Design)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 the study of why things look they way they d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l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inci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mun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3657600" cy="4521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952720" cy="375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80880" y="533520"/>
            <a:ext cx="601992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 Criticism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ans the steps we take when we think/talk about what we like or don’t and wh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terp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7600" y="1066680"/>
            <a:ext cx="3654720" cy="4567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019600" cy="2019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17575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21:21:06Z</dcterms:created>
  <dc:creator>Ted Mallory</dc:creator>
  <dc:description/>
  <dc:language>en-US</dc:language>
  <cp:lastModifiedBy>Ted Mallory</cp:lastModifiedBy>
  <dcterms:modified xsi:type="dcterms:W3CDTF">2008-08-18T02:34:5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